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C1D7-31F7-4CE9-B743-BF0AA417C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F71D-06AD-43BF-AEE3-A4833BA2E4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FF2-1EB7-4EE8-BB2A-2112295051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6C1-9826-4D3E-9046-E9D82B53FB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9E4B-B1F9-4A6C-867B-98370AA899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3251-930A-4B7C-9D16-50F907C7FB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8DD-BFC0-475C-B7AD-57ABB72B68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CEF-63F0-4FD6-855C-511B65F831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5A39-1CB2-4FDA-8A0D-97D3D71FA1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1E79-302F-4DAD-87EC-00E78FF7FE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6A72-B6CC-43D8-90D6-E701C428AE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854-7C57-4F61-A2CD-184DE084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079-F0BC-479B-8F40-BF0559A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0E7CF-5482-4826-90F5-F409F05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CB888-BFF0-4D14-9E00-C371251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98BB8-3E2D-49A5-98BC-5350BFA6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601F1-FC1D-47B9-B0B2-D855095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4F50D-345C-49A1-BF7C-8FC0AF8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144CF-03FD-4D0E-A74A-9C36A3E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A0F9DA-CFA1-4149-A567-989072F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50BB5-68B7-4731-8DA0-DF0950D7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F0CE4-EC74-4BA5-BEC4-0CEAEDD1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347-EDB9-42FE-BE16-05F530F5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2E3-E3E9-4F33-BD7C-C7F6134C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FD5CE-C2F7-40F2-8CB1-8C1F58B1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0D653-B071-4AB1-B0B6-6E0279EC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58DC-0620-49D7-B7A6-939D6BE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41A60-9273-45CC-BFC3-F62859E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1ACC-8F29-4772-A81B-80834F95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6C1DB-2F68-46C7-A6BD-A4E4454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3F1D-0F5B-46C6-8BDB-2DC59DE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1CA-A8D4-4699-B666-38CBFFA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F3996-DED1-40BF-9B09-402C24C8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ADDC6-2E0F-4386-814E-C04010B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A8D44-8229-4650-80EF-649EFDD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D7544-4BAD-4731-8DEA-560B6263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D55D4-81CB-4FC6-8B63-5E7E1305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AE82-1A7C-4241-A3D0-5D2220B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1A22-E9DC-49EE-ACF6-4950AAD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7B63-FD33-4388-8432-D8E1C96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4815-6392-4E5C-9F9B-406AFE6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5A33-F6E0-447A-B703-7035CD2E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391-8424-4C8B-BF63-6B887275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E3D2-0F47-41DB-98B5-14BC312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BC98-BD9B-4EB0-AFE1-2AD3AE3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70EE-ADF8-4477-A19A-A7E8757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8B1B-5090-400B-8398-51A3B1F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CB7D-E4A1-455E-BCB7-333D9A3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92FA-A16B-4F97-BFDE-0EDE1068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9724-3DB7-4393-8A78-17FDE1E3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3CFBE-FA6A-4B20-B045-619EF3B2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F5F8D-421A-4360-8358-6B3F13F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1F3B6-3EC4-41D4-BA9F-D0555E2C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334-A37A-4B59-815D-8967E6ED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BC387-1358-43CC-B266-7EB0DC9B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A2C88-CA3F-414C-9B27-E7080C0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AA790-B4A6-4D09-B2B7-518517C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DCA1B-CB17-4143-B017-E96B4F1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EB6FD-98A9-46CC-B3E5-BD1EC7B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8994B-17FD-4E0E-B99D-BFAC787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839C6-9CFF-45EE-8965-5A01CE4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9F568-D03C-4DBF-A905-3835C6FA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C90A1-68BB-49F0-BD56-80D49710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9C968-77A2-451D-838B-43745CD1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D70-AA81-46FD-8843-BFBDF509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60EF-B150-42C8-BDC6-FE12B9B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C377-95B2-455C-BF2D-D807184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2B6B-69F5-4665-A90B-3BB0054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AEA3-4434-4A01-B75C-16138D0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2714-EFAB-4518-AC73-2F60256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B3E2-E5BF-4BAD-B704-4B2BA91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3294-4CEE-4893-A6EC-AF4DDE7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F96A8-F2E2-44E7-BCD1-7B6EE14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6D79-F3D2-4B67-8CDE-64FA6D7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89C5-8F31-4658-924D-3348D05E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384-AC55-43B3-9BBB-F50A0FA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2260-89A6-4E43-B5D8-CD34EC31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230AA-0994-419C-970C-E1CF0848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8285-9EB0-4889-BF84-7C0CA90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EC7CF-D7EE-41AA-911B-D32AE3D0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2024-F0EE-48F0-884E-66037A9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96DE-F96D-4C1D-AAC3-6108410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AAEF-018C-4DF2-804F-6FB26B0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0048D-28E4-4A52-9688-A0DD321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D295-AEBB-456F-9BA0-7FF96E4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8C034-92B5-44FC-AF1C-66EB201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411-1B6F-494D-BED2-8CC2907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A2A2-F5FB-4005-8E74-DA4CCF73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BE9E-EFBF-41B7-8FDB-C80A476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84463-65A9-468F-BCF0-31C2E5C5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4F972-A8D3-443C-89FA-7A352DD8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785BE-02DE-4D01-88F0-2C22550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F53A-6DC1-456D-ACE0-4F7ECFC5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4656-5743-4526-B8F9-0DD963ED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F4A88-1C0A-435D-BD23-A649969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BCB3A-A3D0-420C-98BE-3D217E9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9970-1B96-4F3F-B928-EE356DA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DE6-0902-44CC-AB70-62F6123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53A5-64D0-41EF-9C39-BBD8941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D179-2286-4D21-9885-B4279CC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D0DF6-C1E1-4468-A33B-8B8EB43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734E-2A5D-45AC-BF4B-861C7B2E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6D58-E275-4EEA-8AA9-F73AC0C7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DEF20-739D-471A-BF26-A71C0564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C827F-E10A-4723-BD00-F64F18FD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6425F-9C6F-467C-ADEE-BB11DECC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E6F138-81D6-4CFF-957F-9E9C40D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73BB4-1A5D-4B44-9F64-086323B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761-DDD0-4B88-B278-F897A8E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46B9E-7A0A-470C-B641-427C074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D2F26-9DA8-4588-B3B1-F2712CC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B7D2D-781A-4799-8847-A218031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2B447-35EF-4034-9F23-C8B48F4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21D63-71DC-450B-84EA-AF6471D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F658C-15DA-437B-84A6-016106EF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AE1EF0-0A4D-4B10-81C2-0FBD2EF0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005A86-93B6-4041-9A01-708BB5F2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41ACC-FF2A-4F8D-9C3E-9CC538B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4FCE32-B0C7-424A-8EF2-FFCB56D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9111-7871-4672-9130-F62588FB940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C16-393D-400D-B080-281389B9A38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D06-4925-4EF5-8D03-1EA049F1D47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11DD-7CA4-4CFD-B49A-B5A104C0DFD8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8BC-2FA6-49D6-9CF1-25738A7F82F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7A1-316A-4009-AB7F-4E3D8AA9E5A4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2D63-1A1D-4463-A2DA-2A3D881F6811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AC23-98AC-4DBF-BFB2-566D6D8964A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301F-69A2-4813-BEBF-D275D8A8BDE5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aRlFsYmkeY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ke out your “Getting to Know You” sheet.  (finish it if you forgot last nigh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28600" y="42660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ergy Use or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cesses that take in and transform energy from the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OWTH and DEVELOP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grows and then changes (matures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assing of genes to offspr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DNA from two organis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758160" indent="-45216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exual –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5840" indent="-20088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ism produces exact copy of itself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452520" indent="-4525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e Changes over ti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sms evolv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http://www.youtube.com/watch?v=faRlFsYmke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Homer Evolution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609480" y="3884760"/>
            <a:ext cx="792504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Arche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main Eukarya -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581280" y="2587680"/>
            <a:ext cx="556272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3809880" y="1143000"/>
            <a:ext cx="457200" cy="609480"/>
            <a:chOff x="3809880" y="1143000"/>
            <a:chExt cx="457200" cy="609480"/>
          </a:xfrm>
        </p:grpSpPr>
        <p:sp>
          <p:nvSpPr>
            <p:cNvPr id="432" name=""/>
            <p:cNvSpPr/>
            <p:nvPr/>
          </p:nvSpPr>
          <p:spPr>
            <a:xfrm>
              <a:off x="3886200" y="1143000"/>
              <a:ext cx="38088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09880" y="1371600"/>
              <a:ext cx="4572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251240" y="1179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31520" y="1944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52280" y="80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che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ists – algae, amoeba, euglen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ung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619360" y="2305080"/>
            <a:ext cx="652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4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to your group from Fri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out your online book scavenger hunt and get the laptop you signed ou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5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two types of reproduction?  How do they diff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osphere – planet that sustains lif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cosystem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ties of living organisms and their non-living environ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otic = liv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biotic = non-l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olu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nging of a population over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tural Selection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are beneficial are more likely to be passed to offspring - “survival of the fittest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ptation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raits that improve organisms ability to survive and reprodu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tness –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organisms contribution to genes to the next gener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28600" y="490068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5334120" y="3895560"/>
            <a:ext cx="3809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228600" y="12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ey mice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better camouflage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get eaten less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eaning they pass on their grey genes to the next genera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ich means a higher fitnes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600200" y="2890800"/>
            <a:ext cx="70390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647960" cy="24084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952880" y="4379760"/>
            <a:ext cx="4191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-6480" y="2120760"/>
            <a:ext cx="8083800" cy="1494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39360" y="4684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eate your own hypothesis explaining how giraffes evolved long necks, assuming their ancestors were shorter.  What evolutionary pressure caused the longer necks? (Why did it happen?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iraffe fight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http://www.youtube.com/watch?v=C7HCIGFdBt8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0198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3990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16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natural selection lead to evolu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2"/>
          <a:stretch/>
        </p:blipFill>
        <p:spPr>
          <a:xfrm>
            <a:off x="450720" y="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we use science for?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s explain the world around u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ually starts with a question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y do things fall?  How do plants grow?  Why do leaves change color in the fall?  What do barnacles eat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usually leads to a prediction and your hypothesis (sometimes in the “if-then” forma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000" indent="-24552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(IF stuff falls then it is because the atmosphere is pushing down on them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xt, you obviously want to test your hypothe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igning your Experimen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ontrol Group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– setup that stays the same in the experi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Experimental Group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setup that is changed in the experi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Independent Variable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factor that you are testing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Dependant Variable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– or responding variable (changes because of the independent variable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alyze your dat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ze data into charts, graphs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sults should be “meaningful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10 people and drug works for 6 vs. …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st 100 people and drug works for 60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te your conclu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proved our hypothesis”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(yay!  Now your work must b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Rockwell"/>
              </a:rPr>
              <a:t>REPRODUCED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disproved our hypothesis”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(boo!  Lets try testing another variable)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cate your resul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rticles, Journals, meetings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895480" y="297180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y would we want a “Blind Experiment” 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make sure the researcher isn’t biased for / against the resul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Researcher doesn’t know which “subjects” received new medicine, just making measurements or chang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ependent Research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t associated with the hypothesis they are research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590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Scientific Method (con’t)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ientific The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fferent from a regular “theory”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mething that has been tested many times and there is no conflict with existing observa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E:  Gravitational The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e know where stuff will land if we drop it, but we can’t say we are 100% correct in explaining i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54864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much…just the stud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if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how does it affect u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ffects our health, foods, medicine, the environment, how we interact, etc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-6480" y="-103320"/>
            <a:ext cx="8107560" cy="1865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endr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otan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Zo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c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tom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yob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nith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atom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hys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chthy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rpet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pidemiolog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7eacb"/>
                </a:solidFill>
                <a:latin typeface="Rockwell"/>
              </a:rPr>
              <a:t>What are  the characteristics of life?</a:t>
            </a:r>
            <a:endParaRPr b="0" lang="en-US" sz="42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t in groups with someone around you and try to brain storm as many characteristics of life as you c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9-9 Warm UP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ree ways you could tell if an organism was alive (out of the 7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7 Characteristics of  Lif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maintain 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have a METABO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GROW and DEVELO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REPRODU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ving things EVOL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380880" y="0"/>
            <a:ext cx="7828200" cy="1006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522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is ORGANIZ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 basic unit of life is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Rockwell"/>
              </a:rPr>
              <a:t>cel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2556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rganization of living thing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rgan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tissue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cell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organelle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bio molecules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 atom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3124080" y="3048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152280" y="3048120"/>
            <a:ext cx="2819520" cy="2508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4724280" y="4343400"/>
            <a:ext cx="3581640" cy="2147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457200" y="3962520"/>
            <a:ext cx="3886200" cy="27414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086600" y="762120"/>
            <a:ext cx="1917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fe responds to STIMULI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tenance of stable internal conditi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Temperature, levels of water,  nutrient uptake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44:28Z</dcterms:created>
  <dc:creator>David</dc:creator>
  <dc:description/>
  <dc:language>en-US</dc:language>
  <cp:lastModifiedBy>SASD</cp:lastModifiedBy>
  <dcterms:modified xsi:type="dcterms:W3CDTF">2009-09-16T12:55:08Z</dcterms:modified>
  <cp:revision>43</cp:revision>
  <dc:subject/>
  <dc:title>The World of Biology</dc:title>
</cp:coreProperties>
</file>